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61F-A8D5-4788-9C33-B3227F69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48B-7719-4031-9A8C-5B102C4B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707-A07A-4E03-9913-6DA02F40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1F6-4A6D-4116-AA9D-A48A21C5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E45-336E-4D98-9627-42A500E3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DB8-636F-42C3-A2E6-CF68E26C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387-5933-4619-8B6B-815AA3B9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81E-6771-4435-AE60-4FDEF916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F9F-C9F2-4C09-B328-A05A9DB4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ABB-FD4E-42DC-A280-6581830C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D33-39BE-4523-A91E-5828016B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128-4B06-4FCD-966B-A81B1910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B6D8-4F80-43C2-B2C3-C31B89EFD8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ECB523-6BC6-4563-A6EF-9540DF63096C}" type="datetime10">
              <a:rPr b="0" lang="en-US" sz="1400" spc="-1" strike="noStrike">
                <a:solidFill>
                  <a:srgbClr val="000000"/>
                </a:solidFill>
                <a:latin typeface="Arial"/>
              </a:rPr>
              <a:t>22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E44D-B0C8-4A3C-B945-EED8E927D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.eb.com/comptons/article-197630?query=owls&amp;ct=" TargetMode="External"/><Relationship Id="rId2" Type="http://schemas.openxmlformats.org/officeDocument/2006/relationships/hyperlink" Target="http://www.carlhiaasen.com/index.shtml" TargetMode="External"/><Relationship Id="rId3" Type="http://schemas.openxmlformats.org/officeDocument/2006/relationships/hyperlink" Target="http://www.owlpages.com/owls.php?genus=Athene&amp;species=cunicularia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ite a sou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giar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teal the ideas or words of another and pass them off as one’s own; to commit literary th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s that provide information (book, encyclopedia, magazine, website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te/ci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 that you have taken information from a source by writing specific information down (like author and tit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sources used (aka works ci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B On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ome sites provide the citation for you.  Eas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rl Hiaas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ome sites have missing information.  Omit what is missing in your 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urrowing 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ome sites have what you need, but you have to search closely for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Gram (exam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essee.”  State Grams for Kids E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Grams, 20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Grams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u.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ultureGrams World Ed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00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Quest Information and Learning. 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00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http://online.culturegrams.com/secure/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ld/world_country.php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d=7&amp;wmn=South_America&amp;cid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&amp;cn=Peru&gt;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interview (exam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x, Karen.  Personal Interview.  Nov. 1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(exam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tterflies and Moth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r. James J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cassette.  National Geographi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Alphabetize by the first word in each cit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All lines after the first line are indented for each cit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EVERY line is double-spaced</a:t>
            </a:r>
            <a:br>
              <a:rPr sz="18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on, Neil.  “Vertebrates.”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olier’s Multimedia Encyclopedia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lier’s,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ano, Hubert.  “Extinctions.”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ional Geographic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990: 621-6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le, Sandra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side and Inside Snak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New York: Sim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uster, 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ock, George.  “Elephants.”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rld Book Encyclopedia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 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(form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 (last name, first name)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tle of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y of publication: Publisher, Yea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(exam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or, Paul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njamin Franklin’s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ston: Little Publishing Co., 195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yclopedia article (form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.  “Title of Article.”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m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cyclopedia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no author is given, begin with the title of the arti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yclopedia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of article (bo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of encyclo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7" descr="encyclopedia.JPG"/>
          <p:cNvPicPr/>
          <p:nvPr/>
        </p:nvPicPr>
        <p:blipFill>
          <a:blip r:embed="rId1"/>
          <a:stretch/>
        </p:blipFill>
        <p:spPr>
          <a:xfrm>
            <a:off x="4648320" y="1600200"/>
            <a:ext cx="371628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4952880" y="2438280"/>
            <a:ext cx="9144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5181480" y="5257800"/>
            <a:ext cx="9144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eft Brace 7"/>
          <p:cNvSpPr/>
          <p:nvPr/>
        </p:nvSpPr>
        <p:spPr>
          <a:xfrm flipH="1">
            <a:off x="7848000" y="2438280"/>
            <a:ext cx="609480" cy="2971800"/>
          </a:xfrm>
          <a:custGeom>
            <a:avLst/>
            <a:gdLst>
              <a:gd name="textAreaLeft" fmla="*/ 389160 w 609480"/>
              <a:gd name="textAreaRight" fmla="*/ 609480 w 609480"/>
              <a:gd name="textAreaTop" fmla="*/ 15840 h 2971800"/>
              <a:gd name="textAreaBottom" fmla="*/ 295596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eft Brace 8"/>
          <p:cNvSpPr/>
          <p:nvPr/>
        </p:nvSpPr>
        <p:spPr>
          <a:xfrm>
            <a:off x="4800600" y="2438280"/>
            <a:ext cx="380880" cy="3048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3048120"/>
              <a:gd name="textAreaBottom" fmla="*/ 303840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"/>
                  <a:pt x="10800" y="225"/>
                </a:cubicBezTo>
                <a:lnTo>
                  <a:pt x="10800" y="10678"/>
                </a:lnTo>
                <a:cubicBezTo>
                  <a:pt x="10800" y="10791"/>
                  <a:pt x="5400" y="10903"/>
                  <a:pt x="0" y="10903"/>
                </a:cubicBezTo>
                <a:cubicBezTo>
                  <a:pt x="5400" y="10903"/>
                  <a:pt x="10800" y="11016"/>
                  <a:pt x="10800" y="11128"/>
                </a:cubicBezTo>
                <a:lnTo>
                  <a:pt x="10800" y="21375"/>
                </a:lnTo>
                <a:cubicBezTo>
                  <a:pt x="10800" y="2148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yclopedia article (exam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ock, George H.  “Elephants.”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r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k Encyclopedia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2 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azine article (form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.  “Title of Article.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me of Magaz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 date: Pages of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azine article (exam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ith, Rick.  “Whales.”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ographic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1999: 661-6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 (form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.  “Article Title.”  Date of Post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me of Website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of Access.  U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18:16:19Z</dcterms:created>
  <dc:creator>rcoutras</dc:creator>
  <dc:description/>
  <dc:language>en-US</dc:language>
  <cp:lastModifiedBy>MNPS User</cp:lastModifiedBy>
  <dcterms:modified xsi:type="dcterms:W3CDTF">2011-09-08T17:40:59Z</dcterms:modified>
  <cp:revision>14</cp:revision>
  <dc:subject/>
  <dc:title>Bibliography: How to cite a source</dc:title>
</cp:coreProperties>
</file>